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36-978D-45E9-AE9E-22D913C1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5CB-F688-4BFB-A61F-8F33CF9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C6962-3951-4666-93D2-33C74D14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B6948-36CB-406A-873F-CA014BDA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E7A97-4D77-4820-A499-461F9451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EB364-60B9-4EFA-9509-41B7EA0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D6706-F472-4FA7-AC67-B985DD9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1EBD9-B1E9-47DF-8FB7-11A0CA8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9360E-6265-43AE-A7C4-F3165458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137CC-BE7C-4A0D-A3B9-8EF6A0D8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27D22-E4DC-48B5-B895-500B714B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7BD35-E957-4E64-BFA9-5218B63F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18B-5E03-492E-A79A-F3A7C75E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975C2-2AC3-411E-A3DE-3AED5C9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F6721-9345-4F3B-B8A3-451988E3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EA66C-74DF-4E57-B4C2-1292257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79727-0E0A-4DB3-AC8A-722AE0A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5AD2C-4C8D-4D2F-A6EF-787896B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65D32-B200-4ED4-8F33-A507985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3CA3E-B123-4BC5-ABB5-BBE5ED2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CDC1F-8453-4F0A-835A-920EEAE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81FBF-5C6E-4893-B966-3C326FD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C10EC-67F9-4805-AC85-B5020741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727-382D-4F2E-A8BC-AB14CD88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FEB8A-75AF-4E6B-9EDC-C537313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EA40F-EEFB-425A-96DC-23FF9885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96F5A-C275-4DC4-B047-255FDFAB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1B6D6-E7AB-4C76-B848-4C4968A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D2E18-68EA-4DB3-AAAF-D8F4CC6D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D22CF-7FA2-4A22-B372-52E5E082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1F82-4E98-4A84-AD0F-15A447C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F8F1C-D1AD-4508-8C7F-D94A887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81287-90D5-4EC5-9D50-FDCFFFD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1914-BE7A-454B-84E0-DF9FB62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D9C7-ABBF-4514-912C-EBCC0BB3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9B4F5-506F-4FCC-B9C7-8B71378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4770-F72A-401C-8F46-74A06D5E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94D14-8A8C-4869-9F4D-FD0AD248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18355-C731-4720-8311-F6E3BB19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46B37-8CB8-4406-9962-F21CB6A2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C4C2A-2961-4BFA-A425-46C18A2C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DDDCA-A281-43BF-AB98-98F9FFFA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DCD88-02B9-43DA-9C8F-3F7C05EB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F4CED-2DFD-4145-AD21-58E090F6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7FC81-7E33-493E-B4A8-F11F347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3A5B-4EC2-4337-A3C8-5E71E52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030F4-5DF0-42E1-B23D-82E7A7F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453E1-E8CB-4BCD-9EB7-0BF9A839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66343-F2A5-4FC4-8165-A61E816D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20996-7FC8-4987-984C-7E38D505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13BB8-3CBD-4216-B772-CEBFE4BA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21DD-D0B1-4756-A41E-EF6A855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ACAE-090F-449F-A2E6-5273574E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7BD8-C57A-49A3-8BFA-4CDBD21C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7F5C-87E7-4559-8201-D37E565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E9BC-0252-4850-9B24-1CFA300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F4F-76E8-47F6-9E94-D55F7605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C389-4A01-4947-9670-1B7FDE1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B56-07DD-4271-BAFD-E127ADC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B8FF-356F-46D9-9703-AC975965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1E9-B900-4F6C-9CB7-EDDE7A43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8E0-ECCA-4D11-9279-B7A47C84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7D43-3246-442E-B1F7-CC9B4829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416B-EA63-4F89-8769-9A402131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029CC-828C-4B1E-9C22-5E4CB2A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3605-72A7-4239-A35F-9D85A6EB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F634-3610-4205-AFFF-9871BE54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AF2-04F8-46E6-959A-5A9B94C6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D4F8-DC6A-4CB8-9B8D-57B6E10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E412-FF58-436D-A116-005271B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CFF6-DC58-4024-842E-77A49D0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78F7-3B4A-4F38-92C7-C22A0EB7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7691-2C67-41F8-94BB-2967A22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9931-9E2C-4D48-9FAC-B0FB68A3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8F23-BD72-4304-A42C-137A10F6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5977-F2B9-4051-ADFF-A4F8AAD1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E222-ADBE-4946-978F-CBDF026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D7A8-1B8B-4F4F-A6E3-A8A12DCE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F36-39BF-4F57-8041-391E8DC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93DE-B0EA-48D4-8DB8-8AE29CB5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CB23-FC82-49F5-9689-45F295CC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5CD2-34E0-4BC9-AF62-C6E452E9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6E24-BA4A-4435-A992-F31EBD0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52CC-30EB-45E4-A3F7-266BE4C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B408-A9C8-4D03-B123-0C8AA41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33E5-919E-4DB0-8EB3-6AFAD56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1CDA-3A92-4EE4-AF10-CD769456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364C-8B2D-4D00-804A-6D2DBD5D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4428-F1F0-40A9-9E60-D79A4E50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F4A-C7A8-463F-B989-991AE3D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BDE7-D67A-4722-A8F8-D1027B14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4B77D-FB29-432C-BB9E-6DED162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D366-54B6-409B-BF48-A4D6E3D4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9705-6728-4380-B82B-7E7FA87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188E-2F7A-459D-8458-A85D6841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EC22-D375-4ADA-9EBF-B5251650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688E-74F9-42E0-88B3-69F642C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E258-DFC1-4FC4-B2D7-AD953B2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407A-9308-46B1-8910-D2346C97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840DB-AAA6-4F92-879F-03165CBF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57C-AD7E-4148-B2A9-2568130B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0F3B-2D97-424F-9D05-50184889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E4AE-ADC4-429C-9144-7D559914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E38B-C067-4EF4-8C7A-98F361E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F43A-93FD-4E78-B414-540023A9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A54A-9E2C-43AE-A68D-B6CEF58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B1C9-5D2C-4B91-B736-1E076E1D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2193-1A5B-4D01-A2B6-ACFF6A47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7D0B-CFD5-4E26-8944-4177402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964F-C1D8-418C-878B-D54D98A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1E56C-1018-4810-8739-651DCC07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1DB-7D45-4851-8D54-B5B3A2A9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626D-F645-4268-8092-2FE9FF0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914D-856D-4E38-9E4F-2CC28662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8705-9DF0-4C27-97F8-0F04738F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40CA6-3CD2-4030-A549-BE00609E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2D99-FCFC-4492-B018-03E5140F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79F83-7A7E-4F65-844E-F1DFA13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928A5-6CE5-4CF2-8D4E-F70F630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7569A-532D-4541-9207-34FC5466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9A665-F4E7-4907-9263-B661344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AC4F-D13A-41BD-91CE-5E13B63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22F-F1BC-4C13-B49B-9D503253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74774-4D89-4E7B-8A4D-9AE403D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F652-2272-4E3B-927E-6F08772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3B108-D04D-4BAD-97FD-86131989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C426B-CEF9-44EA-96E1-E90487D5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578B-E4C6-4446-80FB-B6302E67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ADCD5-746E-4EC6-A47B-472EB42C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3A118-8937-4211-9119-4B7C46FC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5E8AC-D671-42D3-8F37-461E466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0DB73-B8B8-4820-A3BB-1671759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34880-18AA-4747-984B-41CFCFE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41F-C5A4-4597-82FB-2F5FC9F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307E-3E9F-4EE4-8A11-2442637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5258E-CDC0-447C-9FE4-2778EA6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6D71-710C-4D9D-BC0F-61B67BD0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9FA5-92B3-4F7E-8C73-BDF67D5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438FB-FA12-416D-B484-3D805BC1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86546-197E-46E9-8168-614E0BF3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2D50-0E52-4616-B196-F7DD922D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C6FB6-F9EE-4124-B7C5-B7748495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B39AE-EFAF-4765-B8EA-1855234E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E3E38-F6A4-4C08-89F6-6045BF26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5A58-42BA-443D-9C56-24ADD9531CD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CEB-5067-484A-9924-DB54CBFE5AA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44FE-552A-4326-B9F9-9B23C9FFD48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8E61-EF12-4DE3-AB02-5548770E7A5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FE0-07A9-4C65-AA40-8420FE00A5C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D257-699B-4D3D-9C6B-3AD51083712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38F-90C5-4E9E-9BCA-C20B088DC57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F17-4D9E-4A3D-99C1-12832E69DA3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0BCF-0C3D-4385-B5AE-05DC5680B0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17EE-38EF-4E83-BD5A-0CF55BC3817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D1C5-6320-4D85-85C6-8B3E9416371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3E7-5F46-45E8-B16C-151CAC715C2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Прямоугольник 3" descr=""/>
          <p:cNvPicPr/>
          <p:nvPr/>
        </p:nvPicPr>
        <p:blipFill>
          <a:blip r:embed="rId1"/>
          <a:stretch/>
        </p:blipFill>
        <p:spPr>
          <a:xfrm>
            <a:off x="55440" y="225360"/>
            <a:ext cx="8807400" cy="1968480"/>
          </a:xfrm>
          <a:prstGeom prst="rect">
            <a:avLst/>
          </a:prstGeom>
          <a:ln w="0">
            <a:noFill/>
          </a:ln>
        </p:spPr>
      </p:pic>
      <p:sp>
        <p:nvSpPr>
          <p:cNvPr id="607" name="TextBox 5"/>
          <p:cNvSpPr/>
          <p:nvPr/>
        </p:nvSpPr>
        <p:spPr>
          <a:xfrm>
            <a:off x="1087920" y="3357720"/>
            <a:ext cx="160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b050"/>
                </a:solidFill>
                <a:latin typeface="Georgia"/>
              </a:rPr>
              <a:t>&gt;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 flipH="1" flipV="1">
            <a:off x="6991920" y="2377440"/>
            <a:ext cx="160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030a0"/>
                </a:solidFill>
                <a:latin typeface="Georgia"/>
              </a:rPr>
              <a:t>&gt;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7"/>
          <p:cNvSpPr/>
          <p:nvPr/>
        </p:nvSpPr>
        <p:spPr>
          <a:xfrm>
            <a:off x="3608640" y="2492280"/>
            <a:ext cx="160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70c0"/>
                </a:solidFill>
                <a:latin typeface="Georgia"/>
              </a:rPr>
              <a:t>=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 rot="1035000">
            <a:off x="887760" y="2708280"/>
            <a:ext cx="89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695c54"/>
                </a:solidFill>
                <a:latin typeface="Georgia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9"/>
          <p:cNvSpPr/>
          <p:nvPr/>
        </p:nvSpPr>
        <p:spPr>
          <a:xfrm rot="1035000">
            <a:off x="6078600" y="4529160"/>
            <a:ext cx="89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695c54"/>
                </a:solidFill>
                <a:latin typeface="Georgia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0"/>
          <p:cNvSpPr/>
          <p:nvPr/>
        </p:nvSpPr>
        <p:spPr>
          <a:xfrm rot="1035000">
            <a:off x="4824000" y="2446200"/>
            <a:ext cx="128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695c54"/>
                </a:solidFill>
                <a:latin typeface="Georgia"/>
              </a:rPr>
              <a:t>-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1"/>
          <p:cNvSpPr/>
          <p:nvPr/>
        </p:nvSpPr>
        <p:spPr>
          <a:xfrm rot="1035000">
            <a:off x="3108600" y="4894200"/>
            <a:ext cx="128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695c54"/>
                </a:solidFill>
                <a:latin typeface="Georgia"/>
              </a:rPr>
              <a:t>-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612000" y="184464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Любое 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отрицательное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6949440" y="18446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611280" y="2852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Любое  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положительное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число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6878160" y="2781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684360" y="3789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Любое  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отрицательное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число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6084720" y="375444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лож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5280" y="472428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з  двух 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отрицательных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льше то,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у которого 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6012000" y="1700280"/>
            <a:ext cx="5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b4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85800" y="27082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b4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5763600" y="3564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807600" y="47973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17"/>
          <p:cNvSpPr txBox="1"/>
          <p:nvPr/>
        </p:nvSpPr>
        <p:spPr>
          <a:xfrm>
            <a:off x="2268360" y="692280"/>
            <a:ext cx="554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cbb9ff">
                      <a:alpha val="50000"/>
                    </a:srgbClr>
                  </a:outerShdw>
                </a:effectLst>
                <a:latin typeface="Arial"/>
              </a:rPr>
              <a:t>Сравнение чисел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cbb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7"/>
          <p:cNvSpPr/>
          <p:nvPr/>
        </p:nvSpPr>
        <p:spPr>
          <a:xfrm>
            <a:off x="3492360" y="47628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Georgia"/>
              </a:rPr>
              <a:t>Вчера на улице термомет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Georgia"/>
              </a:rPr>
              <a:t>показывал -1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8"/>
          <p:cNvSpPr/>
          <p:nvPr/>
        </p:nvSpPr>
        <p:spPr>
          <a:xfrm>
            <a:off x="3564000" y="2708280"/>
            <a:ext cx="55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Сегодня на улице термомет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Показывает 1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50"/>
          <p:cNvSpPr/>
          <p:nvPr/>
        </p:nvSpPr>
        <p:spPr>
          <a:xfrm>
            <a:off x="7164360" y="4005360"/>
            <a:ext cx="144360" cy="14436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49"/>
          <p:cNvSpPr/>
          <p:nvPr/>
        </p:nvSpPr>
        <p:spPr>
          <a:xfrm>
            <a:off x="6948360" y="1773360"/>
            <a:ext cx="144720" cy="1429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84"/>
          <p:cNvSpPr/>
          <p:nvPr/>
        </p:nvSpPr>
        <p:spPr>
          <a:xfrm>
            <a:off x="3959280" y="4869000"/>
            <a:ext cx="37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Arial Black"/>
              </a:rPr>
              <a:t>-</a:t>
            </a:r>
            <a:r>
              <a:rPr b="0" lang="ru-RU" sz="7200" spc="-1" strike="noStrike">
                <a:solidFill>
                  <a:srgbClr val="00b050"/>
                </a:solidFill>
                <a:latin typeface="Arial Black"/>
              </a:rPr>
              <a:t>10</a:t>
            </a:r>
            <a:r>
              <a:rPr b="0" lang="en-US" sz="7200" spc="-1" strike="noStrike">
                <a:solidFill>
                  <a:srgbClr val="00b050"/>
                </a:solidFill>
                <a:latin typeface="Arial Black"/>
              </a:rPr>
              <a:t>&lt;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72"/>
          <p:cNvSpPr/>
          <p:nvPr/>
        </p:nvSpPr>
        <p:spPr>
          <a:xfrm>
            <a:off x="611280" y="477720"/>
            <a:ext cx="2232000" cy="5688000"/>
          </a:xfrm>
          <a:prstGeom prst="rect">
            <a:avLst/>
          </a:prstGeom>
          <a:solidFill>
            <a:srgbClr val="ccec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ая соединительная линия 73"/>
          <p:cNvSpPr/>
          <p:nvPr/>
        </p:nvSpPr>
        <p:spPr>
          <a:xfrm>
            <a:off x="1187280" y="14144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ая соединительная линия 74"/>
          <p:cNvSpPr/>
          <p:nvPr/>
        </p:nvSpPr>
        <p:spPr>
          <a:xfrm>
            <a:off x="1187280" y="10540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ая соединительная линия 85"/>
          <p:cNvSpPr/>
          <p:nvPr/>
        </p:nvSpPr>
        <p:spPr>
          <a:xfrm>
            <a:off x="1187280" y="24940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86"/>
          <p:cNvSpPr/>
          <p:nvPr/>
        </p:nvSpPr>
        <p:spPr>
          <a:xfrm>
            <a:off x="1187280" y="2133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87"/>
          <p:cNvSpPr/>
          <p:nvPr/>
        </p:nvSpPr>
        <p:spPr>
          <a:xfrm>
            <a:off x="1187280" y="1773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88"/>
          <p:cNvSpPr/>
          <p:nvPr/>
        </p:nvSpPr>
        <p:spPr>
          <a:xfrm>
            <a:off x="1187280" y="3573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ая соединительная линия 89"/>
          <p:cNvSpPr/>
          <p:nvPr/>
        </p:nvSpPr>
        <p:spPr>
          <a:xfrm>
            <a:off x="1187280" y="3213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90"/>
          <p:cNvSpPr/>
          <p:nvPr/>
        </p:nvSpPr>
        <p:spPr>
          <a:xfrm>
            <a:off x="1187280" y="28544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91"/>
          <p:cNvSpPr/>
          <p:nvPr/>
        </p:nvSpPr>
        <p:spPr>
          <a:xfrm>
            <a:off x="1187280" y="46544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92"/>
          <p:cNvSpPr/>
          <p:nvPr/>
        </p:nvSpPr>
        <p:spPr>
          <a:xfrm>
            <a:off x="1187280" y="42940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93"/>
          <p:cNvSpPr/>
          <p:nvPr/>
        </p:nvSpPr>
        <p:spPr>
          <a:xfrm>
            <a:off x="1187280" y="3933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94"/>
          <p:cNvSpPr/>
          <p:nvPr/>
        </p:nvSpPr>
        <p:spPr>
          <a:xfrm>
            <a:off x="1187280" y="5013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95"/>
          <p:cNvSpPr/>
          <p:nvPr/>
        </p:nvSpPr>
        <p:spPr>
          <a:xfrm>
            <a:off x="1619280" y="981000"/>
            <a:ext cx="216000" cy="4465800"/>
          </a:xfrm>
          <a:prstGeom prst="rect">
            <a:avLst/>
          </a:prstGeom>
          <a:solidFill>
            <a:srgbClr val="ff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7"/>
          <p:cNvSpPr/>
          <p:nvPr/>
        </p:nvSpPr>
        <p:spPr>
          <a:xfrm>
            <a:off x="830160" y="2925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8"/>
          <p:cNvSpPr/>
          <p:nvPr/>
        </p:nvSpPr>
        <p:spPr>
          <a:xfrm>
            <a:off x="2342520" y="2925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8"/>
          <p:cNvSpPr/>
          <p:nvPr/>
        </p:nvSpPr>
        <p:spPr>
          <a:xfrm>
            <a:off x="671040" y="2205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99"/>
          <p:cNvSpPr/>
          <p:nvPr/>
        </p:nvSpPr>
        <p:spPr>
          <a:xfrm>
            <a:off x="2255040" y="2205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0"/>
          <p:cNvSpPr/>
          <p:nvPr/>
        </p:nvSpPr>
        <p:spPr>
          <a:xfrm>
            <a:off x="671040" y="2565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01"/>
          <p:cNvSpPr/>
          <p:nvPr/>
        </p:nvSpPr>
        <p:spPr>
          <a:xfrm>
            <a:off x="2255040" y="2565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02"/>
          <p:cNvSpPr/>
          <p:nvPr/>
        </p:nvSpPr>
        <p:spPr>
          <a:xfrm>
            <a:off x="671040" y="3357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03"/>
          <p:cNvSpPr/>
          <p:nvPr/>
        </p:nvSpPr>
        <p:spPr>
          <a:xfrm>
            <a:off x="2255040" y="3357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04"/>
          <p:cNvSpPr/>
          <p:nvPr/>
        </p:nvSpPr>
        <p:spPr>
          <a:xfrm>
            <a:off x="671040" y="3646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05"/>
          <p:cNvSpPr/>
          <p:nvPr/>
        </p:nvSpPr>
        <p:spPr>
          <a:xfrm>
            <a:off x="2255040" y="3646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06"/>
          <p:cNvSpPr/>
          <p:nvPr/>
        </p:nvSpPr>
        <p:spPr>
          <a:xfrm>
            <a:off x="671040" y="1846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7"/>
          <p:cNvSpPr/>
          <p:nvPr/>
        </p:nvSpPr>
        <p:spPr>
          <a:xfrm>
            <a:off x="2255040" y="1846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08"/>
          <p:cNvSpPr/>
          <p:nvPr/>
        </p:nvSpPr>
        <p:spPr>
          <a:xfrm>
            <a:off x="671040" y="4005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09"/>
          <p:cNvSpPr/>
          <p:nvPr/>
        </p:nvSpPr>
        <p:spPr>
          <a:xfrm>
            <a:off x="2255040" y="4005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10"/>
          <p:cNvSpPr/>
          <p:nvPr/>
        </p:nvSpPr>
        <p:spPr>
          <a:xfrm>
            <a:off x="671040" y="14860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11"/>
          <p:cNvSpPr/>
          <p:nvPr/>
        </p:nvSpPr>
        <p:spPr>
          <a:xfrm>
            <a:off x="2255040" y="14860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12"/>
          <p:cNvSpPr/>
          <p:nvPr/>
        </p:nvSpPr>
        <p:spPr>
          <a:xfrm>
            <a:off x="671040" y="4365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13"/>
          <p:cNvSpPr/>
          <p:nvPr/>
        </p:nvSpPr>
        <p:spPr>
          <a:xfrm>
            <a:off x="2255040" y="4365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14"/>
          <p:cNvSpPr/>
          <p:nvPr/>
        </p:nvSpPr>
        <p:spPr>
          <a:xfrm>
            <a:off x="671040" y="1125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15"/>
          <p:cNvSpPr/>
          <p:nvPr/>
        </p:nvSpPr>
        <p:spPr>
          <a:xfrm>
            <a:off x="2255040" y="1125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116"/>
          <p:cNvSpPr/>
          <p:nvPr/>
        </p:nvSpPr>
        <p:spPr>
          <a:xfrm>
            <a:off x="1619280" y="3573360"/>
            <a:ext cx="216000" cy="1873440"/>
          </a:xfrm>
          <a:prstGeom prst="rect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Овал 117"/>
          <p:cNvSpPr/>
          <p:nvPr/>
        </p:nvSpPr>
        <p:spPr>
          <a:xfrm>
            <a:off x="1476360" y="5302080"/>
            <a:ext cx="503280" cy="50328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8"/>
          <p:cNvSpPr/>
          <p:nvPr/>
        </p:nvSpPr>
        <p:spPr>
          <a:xfrm>
            <a:off x="671040" y="765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8c61"/>
                </a:solidFill>
                <a:latin typeface="Georgia"/>
              </a:rPr>
              <a:t>6</a:t>
            </a: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9"/>
          <p:cNvSpPr/>
          <p:nvPr/>
        </p:nvSpPr>
        <p:spPr>
          <a:xfrm>
            <a:off x="2255040" y="765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8c61"/>
                </a:solidFill>
                <a:latin typeface="Georgia"/>
              </a:rPr>
              <a:t>6</a:t>
            </a: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671040" y="4797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1"/>
          <p:cNvSpPr/>
          <p:nvPr/>
        </p:nvSpPr>
        <p:spPr>
          <a:xfrm>
            <a:off x="2255040" y="4797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8c61"/>
                </a:solidFill>
                <a:latin typeface="Georgi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122"/>
          <p:cNvSpPr/>
          <p:nvPr/>
        </p:nvSpPr>
        <p:spPr>
          <a:xfrm>
            <a:off x="1619280" y="2852640"/>
            <a:ext cx="216000" cy="2594160"/>
          </a:xfrm>
          <a:prstGeom prst="rect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43:23Z</dcterms:created>
  <dc:creator>Admin</dc:creator>
  <dc:description/>
  <dc:language>en-US</dc:language>
  <cp:lastModifiedBy>Admin</cp:lastModifiedBy>
  <dcterms:modified xsi:type="dcterms:W3CDTF">2011-02-08T12:25:32Z</dcterms:modified>
  <cp:revision>4</cp:revision>
  <dc:subject/>
  <dc:title>Слайд 1</dc:title>
</cp:coreProperties>
</file>